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7C53-D9F1-420B-A0F0-E58D6B6F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3BB7-20AC-4721-9A2E-712A3F0DB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D8F-5CF3-4683-9D28-5488EE3AD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CE6-2CD7-4A5F-A797-AC3F4F433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BC7-EC0D-4CA3-8660-BC3F0886AF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2CA0-D9D1-4983-B8A2-C64738D99C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7D8-B591-4C78-A26F-94055933A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2F8E-3A58-45CD-8F60-65B09FA89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CFC-A20E-4CEE-99B9-CC8D74CF0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7DB-10C3-4A09-8753-E0E24C5DD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FD6-D3A9-4A11-AD42-CB94264B7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9AC-D149-444E-84EE-39AD1022C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5E4F-90C6-40C6-A2BB-7397B45BF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389-042F-43DD-B49E-0191F23B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290-2631-4673-B9B8-F19099B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100-4F98-4A99-82C1-F1D2D527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C13-94CF-494B-8408-14C22852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305-0E16-41CA-B4CD-5043C5EA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689C-858F-404D-9853-CD45F83A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E944-E48E-4741-85B3-2C6C4963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5F3E-AAE4-44DE-B40B-84B16BC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ABE-66C6-441F-8252-94840D14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275C-338B-4145-830F-DE255CA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405-30AB-494B-B241-818167A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F77-F11B-4529-891B-A64234C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796C-965A-4959-A380-E096B7C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2FE-8391-4FC6-ABAC-11707EB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911-8F44-4FA3-BCEA-598CB707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7AD3-5FE6-45F0-9745-ED3C2B6E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0CFE-7A8C-4DA0-80C7-E7C3A5DC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DA8-E04E-433D-819F-BF1CC6E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B31-5FA6-4578-9B0E-0CC6235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6A7-1FCE-4849-9073-BECBA77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27F-D320-4FD0-891C-EAE30E7F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856-400B-49A6-9A10-BDAE472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762-81BE-4984-8C56-48A1F5E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C67-7782-4216-BDA6-5EA7BF9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9018-05F6-4505-BAAF-2F6932ECD9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657D-0D2F-4512-B028-E39B2C56D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hapter Six: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American Revolution, Part Tw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rom the Declaration of Independence to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T 2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ost-war America und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ewburgh conspi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eaty of Paris, 178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ndepen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rder = MS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b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y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 re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Treaty of Paris"/>
          <p:cNvPicPr/>
          <p:nvPr/>
        </p:nvPicPr>
        <p:blipFill>
          <a:blip r:embed="rId1"/>
          <a:stretch/>
        </p:blipFill>
        <p:spPr>
          <a:xfrm>
            <a:off x="3581280" y="1600200"/>
            <a:ext cx="54104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frican Americans during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Virgi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unmore’s Procla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rnwallis’s ar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bs and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rdships fa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lorddunmore"/>
          <p:cNvPicPr/>
          <p:nvPr/>
        </p:nvPicPr>
        <p:blipFill>
          <a:blip r:embed="rId1"/>
          <a:stretch/>
        </p:blipFill>
        <p:spPr>
          <a:xfrm>
            <a:off x="4419720" y="838080"/>
            <a:ext cx="37083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frican Americans during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8600" y="1371600"/>
            <a:ext cx="4267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South Carolina and Geor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Jerry/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lave r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rban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hoice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ligious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lavery and westward expa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Constitution and the slave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slaves%20in%20Va%20at%20time%20of%20revolution"/>
          <p:cNvPicPr/>
          <p:nvPr/>
        </p:nvPicPr>
        <p:blipFill>
          <a:blip r:embed="rId1"/>
          <a:stretch/>
        </p:blipFill>
        <p:spPr>
          <a:xfrm>
            <a:off x="4495680" y="2133720"/>
            <a:ext cx="4191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frican Americans during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the No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reedom and gradual free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frican Americans and the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atrio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rit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ree African Americans in the No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bvlf"/>
          <p:cNvPicPr/>
          <p:nvPr/>
        </p:nvPicPr>
        <p:blipFill>
          <a:blip r:embed="rId1"/>
          <a:stretch/>
        </p:blipFill>
        <p:spPr>
          <a:xfrm>
            <a:off x="4114800" y="914400"/>
            <a:ext cx="2763720" cy="4191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AFRICANAMERICAN5"/>
          <p:cNvPicPr/>
          <p:nvPr/>
        </p:nvPicPr>
        <p:blipFill>
          <a:blip r:embed="rId2"/>
          <a:stretch/>
        </p:blipFill>
        <p:spPr>
          <a:xfrm>
            <a:off x="6934320" y="3429000"/>
            <a:ext cx="202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omen’s lives during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hanging roles and 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rtime disru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ilitary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omen of the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gular Tro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rregular serv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omen in Indian terr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Mrs. Merri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00000032"/>
          <p:cNvPicPr/>
          <p:nvPr/>
        </p:nvPicPr>
        <p:blipFill>
          <a:blip r:embed="rId1"/>
          <a:stretch/>
        </p:blipFill>
        <p:spPr>
          <a:xfrm>
            <a:off x="3809880" y="1371600"/>
            <a:ext cx="5110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640" y="2808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Content Placeholder 2" descr=""/>
          <p:cNvPicPr/>
          <p:nvPr/>
        </p:nvPicPr>
        <p:blipFill>
          <a:blip r:embed="rId1"/>
          <a:stretch/>
        </p:blipFill>
        <p:spPr>
          <a:xfrm>
            <a:off x="390600" y="622440"/>
            <a:ext cx="82962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are some reasons we might consider the American victory unexpected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ow should we evaluate the African-American experience of the American Revolution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ow should we characterize white women’s participation in the American R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for American Independence-1776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claration of Indepen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ighting Moves to NY city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owe Br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ashington’s army retr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apture of Nathan H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’s army loses at White Plains, Lake Champlain and loses N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lg_551"/>
          <p:cNvPicPr/>
          <p:nvPr/>
        </p:nvPicPr>
        <p:blipFill>
          <a:blip r:embed="rId1"/>
          <a:stretch/>
        </p:blipFill>
        <p:spPr>
          <a:xfrm>
            <a:off x="3809880" y="3405240"/>
            <a:ext cx="515304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04920" y="609480"/>
            <a:ext cx="4419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omas Paine’s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American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’s Cro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attle of Trenton, N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l. Rolle/Hessi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attle of Princeton, N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057400" y="579096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yranny, like Hell, is not easily conquer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et we have this consolation with us, that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arder the conflict, the more glorious the triumph.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washington"/>
          <p:cNvPicPr/>
          <p:nvPr/>
        </p:nvPicPr>
        <p:blipFill>
          <a:blip r:embed="rId1"/>
          <a:stretch/>
        </p:blipFill>
        <p:spPr>
          <a:xfrm>
            <a:off x="3965400" y="380880"/>
            <a:ext cx="51786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ratoga: Turning Poi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urgoyne’s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urgoyne’s Arm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rt Ticonde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owe to Philadelph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pt-Oct American victory at Sarat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reaty of Amity and Commerce, Treaty of Alli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ebruary 1778: French enter the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reaty of Amity and Comme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reaty of Alli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alley Forge, winter ’77-’7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aron von Steuben (Pruss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778-1779: stalem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780, Year of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harles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m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edict Arn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utinies (CT reg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Battle in the So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rnwallis vs. Gre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780-178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rnwallis to Yorktown to re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orktown, fall 178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 Gras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World Turned Upside Dow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4343400" y="5410080"/>
          <a:ext cx="914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410080"/>
                    <a:ext cx="914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fter the end of armed conflict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ewburgh conspi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eaty of Paris, 178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ndepen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rder = MS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b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y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 re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trumbull"/>
          <p:cNvPicPr/>
          <p:nvPr/>
        </p:nvPicPr>
        <p:blipFill>
          <a:blip r:embed="rId1"/>
          <a:stretch/>
        </p:blipFill>
        <p:spPr>
          <a:xfrm>
            <a:off x="3429000" y="3124080"/>
            <a:ext cx="55627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End of the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28600" y="1219320"/>
            <a:ext cx="3581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ewburgh conspi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eaty of Paris, 178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ndepen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rder = MS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b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y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 re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21:37:35Z</dcterms:created>
  <dc:creator>Media</dc:creator>
  <dc:description/>
  <dc:language>en-US</dc:language>
  <cp:lastModifiedBy>J Franklin Williamson</cp:lastModifiedBy>
  <dcterms:modified xsi:type="dcterms:W3CDTF">2019-02-21T11:24:58Z</dcterms:modified>
  <cp:revision>42</cp:revision>
  <dc:subject/>
  <dc:title>Slide 1</dc:title>
</cp:coreProperties>
</file>